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8.gif" ContentType="image/gif"/>
  <Override PartName="/ppt/media/image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FC98BC-4620-426C-BC63-00F103E7E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D60740-1FEF-4025-833B-667C25CB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B8B23A-DB7E-4151-A015-C7592A2E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F3422D-E874-4DCF-B666-00D9B2540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4A9167-FE7B-4F6A-9D6F-6B401580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156E11-F56A-43BB-B83B-E01A11FE4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the participants to complete the statement:  "What's important about parallel tasks is …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complete on a sticky and post on the door as they le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28F4DB-3B9D-4782-A85C-369898B4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FB7DD0-3BE5-47FA-BF86-52416C21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7BEC30-DF36-4076-A48E-E762542B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7DFD07-7E51-423E-9D76-E18BADEB6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B360F2-635C-4377-B9E9-F79CC388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0694DF-EA3B-4E89-AF48-E5EEA32B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F11189-77F9-4DF3-88C2-A62AE1E3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B0AAF5-9317-4972-8641-FFC620C0B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CC6-E0B0-4369-9AB9-49694EBA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9BE-707F-4BEF-A52B-F40A539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CCD-0AFA-40C3-8BA0-FCEAAE62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2A2-D5AD-4076-B1ED-A928F68F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098D-3A4D-4F79-8834-66C56E56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1D00-59B8-4843-9C5F-59E089FD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EC91-6BCA-4009-AEB9-8EAC129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98D-3330-4742-87A2-BC082BF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E6E0-AB83-4DC5-83A6-8AB328B3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8149-020F-4BB8-BCDD-DB9550EC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1357-5864-41CE-80DD-179AEDF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01F-F434-4F90-B299-0820582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E3E8-04BE-4A33-84F6-30939C5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C3D8-B484-422A-8C69-78E391F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8A6C-CE98-463A-BE4C-DFFEB14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1CB-F657-4780-9D10-AA91099D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4ABE-AD0C-4C38-839A-89C6D885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50A-1CB1-4C6A-A71C-05F9CF4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1FE-D4F9-4999-915C-72D0B6E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DFA-D780-4399-8248-4C2FC0F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4D8-2705-4DDA-96F2-7364335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099-90DE-424C-9FC0-FBCA403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75-680F-4B97-923E-E69D8D7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78E-288B-4914-976A-0B63CD4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02CF-1101-4357-AE54-564F72B54F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8388360" cy="18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02520" y="13500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7600" y="266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B3E2-079A-4976-BC39-5940BC28AA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85332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15228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43280" y="24120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a/imgres?imgurl=http://www.ti83calculator.net/ti83.jpg&amp;imgrefurl=http://www.ti83calculator.net/&amp;usg=__Uy2lF01SbsJNbCom6Xq3_0bwehY=&amp;h=351&amp;w=225&amp;sz=22&amp;hl=en&amp;start=19&amp;tbnid=1JhiWyS8HNOPrM:&amp;tbnh=120&amp;tbnw=77&amp;prev=/images%3Fq%3DTI%2Bcalculator%26gbv%3D2%26hl%3Den%26sa%3D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3141360"/>
            <a:ext cx="6378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er 2009</a:t>
            </a:r>
            <a:br>
              <a:rPr sz="44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1280" y="907920"/>
            <a:ext cx="61927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33cc"/>
                </a:solidFill>
                <a:latin typeface="Arial"/>
              </a:rPr>
              <a:t>Quadratic &amp; Trigonometric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33cc"/>
                </a:solidFill>
                <a:latin typeface="Arial"/>
              </a:rPr>
              <a:t>Session 2</a:t>
            </a:r>
            <a:r>
              <a:rPr b="1" lang="en-CA" sz="2800" spc="-1" strike="noStrike">
                <a:solidFill>
                  <a:srgbClr val="21d1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80000" y="515772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Arial"/>
              </a:rPr>
              <a:t>Tom Chap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Arial"/>
              </a:rPr>
              <a:t>Judy Mend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6280" y="1904760"/>
            <a:ext cx="78595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would the function change if the given point (-1, 5) changed to (-1, -5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65A-47A0-4390-97F1-B7C345FA4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Parallel Task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a group with others working on the sa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mplete the task by selecting one of the questions and then prompt each other using the follow-up question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atch the parallel task to a big idea and then find all the expectations that are addressed by the two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C26-A56D-4AFF-AA85-66BE2E2BD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8400" y="169992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"/>
              </a:rPr>
              <a:t>Break Tim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– 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alk the Walk &amp;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670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C8D-AA64-4CC6-B485-714D95BF29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520" y="495468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rd your thinking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25F-BAAE-404E-B2F3-DB2E4D0B61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…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teams of four (walker, calculator operator, CBR manager, recor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walks pictured or create your own.  See BLM 3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scuss and record how you will “Walk the Walk”  to make the graph and use this knowledge to create a similar graph with a graphing calculator and a CB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85D-CEA6-4410-98C1-45141C978C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8144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4836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60684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E97-E9EE-4190-A76F-9FEB68D21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B0F-FAFF-4FDC-A744-468B18FBD4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EBF-C56C-47E9-9A09-C93A04D7E8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3B2-FD03-4D47-9D36-58C13824B0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539640" y="981000"/>
            <a:ext cx="820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Modeling in a </a:t>
            </a:r>
            <a:br>
              <a:rPr sz="4800"/>
            </a:b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E32-B66B-4CE1-90A5-4A0E88DC3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609-C021-4D8A-A4C6-03868D0366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3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F65-150E-4D77-85F7-76A91C87D7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614-4D19-4DDE-8F81-A86AAC59A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1d15c"/>
                </a:solidFill>
                <a:latin typeface="Arial"/>
              </a:rPr>
              <a:t>Minds 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–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etermine the equation of a function with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25D-8A4F-466C-8600-EA43B5FC7D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draw a 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use algeb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ich did you do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AC9-36B9-4775-BB37-E4705F0DC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Could you have predicted whether the ‘a’ value was positive or negative before you actually calcula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6C4-F2C0-4880-A741-CB2DC66088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s the value of ‘a’ what you exp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CC0-7129-4E67-9238-6E530A231B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need all three pieces of inform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y?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F2E-3F41-4F1A-AFAF-4EEC9AAD6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did you determin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A2E-3036-43C0-A992-D14D5AE79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33:56Z</dcterms:created>
  <dc:creator>Myrna Ingalls</dc:creator>
  <dc:description/>
  <dc:language>en-US</dc:language>
  <cp:lastModifiedBy>Peel District School Board</cp:lastModifiedBy>
  <dcterms:modified xsi:type="dcterms:W3CDTF">2009-08-26T03:40:53Z</dcterms:modified>
  <cp:revision>154</cp:revision>
  <dc:subject/>
  <dc:title>OAME Leadership</dc:title>
</cp:coreProperties>
</file>